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4B1BF-38CF-4008-91B8-14FC88053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60006-F94B-4636-A7F4-84687BECF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ED967-6E15-4779-AA15-FC263B3DD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88815-7755-45EF-990A-EE1159F57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CABB7E-B754-4E40-A77D-469D6FC2BF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42CE3-CC4E-4020-B683-EEF200D23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208FA-9B0E-4595-A1F1-A44B52821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0BB5D-2298-4E82-91B4-884413666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4A25B-CE0D-443B-841B-B77458C50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1B26E-9E9F-4F0B-A3D5-BA801FC45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D5AEB-5FC6-43C7-A077-B08CF098D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05015-D0B7-4C83-B256-C8FDC73D9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5C9C7-5796-4D5B-BA88-DFAFC55B5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493C4-BA83-455D-90A5-E64E83895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691CE-70AD-4BD7-8067-89803CAF6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42673C-47D5-43A0-892D-0A9FCC85AE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54AF79-5C03-4DCF-B02A-DB704470B6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7DF38-553D-46B8-975E-188E3BB68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2F6A2-4525-404B-8B13-99A741D77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5212B-4DDA-4C6F-955D-7E7FD21F6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7EA09-F390-485A-AF38-7BF99E00B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57181-7050-4BEF-9B40-57FF04579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861F8-2B93-4F99-9133-41EB62AAC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5B74D-428A-41E6-9289-02745DBA0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81F3-5B63-4842-B0C3-EE1BD42323FF}" type="slidenum">
              <a:rPr b="0" lang="pt-PT"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89872-D259-4325-8C2B-C3B30315A143}" type="slidenum">
              <a:rPr b="0" lang="pt-PT"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ilc.pi.cnr.it/EAGLES96/browse.htm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875960"/>
            <a:ext cx="7772400" cy="134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400" spc="-1" strike="noStrike">
                <a:solidFill>
                  <a:srgbClr val="ccecff"/>
                </a:solidFill>
                <a:latin typeface="Arial"/>
                <a:ea typeface="Times New Roman"/>
              </a:rPr>
              <a:t>Corpora Comparáveis </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linda Maia </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LUP</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Similares em </a:t>
            </a:r>
            <a:br>
              <a:rPr sz="4000"/>
            </a:br>
            <a:r>
              <a:rPr b="0" lang="en-GB" sz="4000" spc="-1" strike="noStrike">
                <a:solidFill>
                  <a:srgbClr val="ccecff"/>
                </a:solidFill>
                <a:latin typeface="Arial"/>
              </a:rPr>
              <a:t>– Estrutura / Função?</a:t>
            </a:r>
            <a:endParaRPr b="0" lang="en-US" sz="40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Estrutura</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Textos formais e bem construídos – ex. Textos legai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Discurso informal – ex. Transcrições de conversas</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Função</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Social</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ultura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Similares </a:t>
            </a:r>
            <a:br>
              <a:rPr sz="4000"/>
            </a:br>
            <a:r>
              <a:rPr b="0" lang="en-GB" sz="4000" spc="-1" strike="noStrike">
                <a:solidFill>
                  <a:srgbClr val="ccecff"/>
                </a:solidFill>
                <a:latin typeface="Arial"/>
              </a:rPr>
              <a:t>- Registo?</a:t>
            </a:r>
            <a:endParaRPr b="0" lang="en-US" sz="4000" spc="-1" strike="noStrike">
              <a:solidFill>
                <a:srgbClr val="ccec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Registo</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a:t>
            </a:r>
            <a:r>
              <a:rPr b="0" lang="en-GB" sz="2800" spc="-1" strike="noStrike">
                <a:solidFill>
                  <a:srgbClr val="ffffff"/>
                </a:solidFill>
                <a:latin typeface="Verdana"/>
              </a:rPr>
              <a:t>Field’ – situação, assunto, etc</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a:t>
            </a:r>
            <a:r>
              <a:rPr b="0" lang="en-GB" sz="2800" spc="-1" strike="noStrike">
                <a:solidFill>
                  <a:srgbClr val="ffffff"/>
                </a:solidFill>
                <a:latin typeface="Verdana"/>
              </a:rPr>
              <a:t>Tenor’ – relações interpessoais</a:t>
            </a:r>
            <a:endParaRPr b="0" lang="en-US" sz="28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x. formal/informal, cortesia, etc</a:t>
            </a:r>
            <a:endParaRPr b="0" lang="en-US" sz="24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odo</a:t>
            </a:r>
            <a:endParaRPr b="0" lang="en-US" sz="28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Falado: ex. diálogo formal / informal</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scrito: ex. livro, artigo, manual de instruções</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Multimedia: ex. Encarta, cinema, interne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Similar - Dialecto?</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Dialecto</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Geográfico &gt; ex. Áreas urbanas/rurais, países desenvolvidos / em desenvolvimento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Temporal &gt; ex. Período histórico,  grupos etários diferentes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Social &gt; ex. Classes sociais, níveis de educaçã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omparabilidade </a:t>
            </a:r>
            <a:br>
              <a:rPr sz="4400"/>
            </a:br>
            <a:r>
              <a:rPr b="0" lang="en-GB" sz="4400" spc="-1" strike="noStrike">
                <a:solidFill>
                  <a:srgbClr val="ccecff"/>
                </a:solidFill>
                <a:latin typeface="Arial"/>
              </a:rPr>
              <a:t>de Corpora Muito Grandes</a:t>
            </a:r>
            <a:endParaRPr b="0" lang="en-US" sz="4400" spc="-1" strike="noStrike">
              <a:solidFill>
                <a:srgbClr val="ccec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Corpora Muito Grandes são comparáveis se:</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Similares em tamanho</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nstruídos segundo os mesmos critérios &gt; ex. quantidade e qualidade de tipos de texto</a:t>
            </a:r>
            <a:endParaRPr b="0" lang="en-US" sz="28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Por exemplo? </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ritish National Corpu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nnheimer Corpu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omparabilidade </a:t>
            </a:r>
            <a:br>
              <a:rPr sz="4400"/>
            </a:br>
            <a:r>
              <a:rPr b="0" lang="en-GB" sz="4400" spc="-1" strike="noStrike">
                <a:solidFill>
                  <a:srgbClr val="ccecff"/>
                </a:solidFill>
                <a:latin typeface="Arial"/>
              </a:rPr>
              <a:t>de corpora jornalísticos</a:t>
            </a:r>
            <a:endParaRPr b="0" lang="en-US" sz="4400" spc="-1" strike="noStrike">
              <a:solidFill>
                <a:srgbClr val="ccec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Corpora jornalísticos variam e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Tipo:  qualidade/popular, conteúdo geral/especializado</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Data de publicação: o mesmo dia/mês/ano </a:t>
            </a:r>
            <a:endParaRPr b="0" lang="en-US" sz="2800" spc="-1" strike="noStrike">
              <a:solidFill>
                <a:srgbClr val="ffffff"/>
              </a:solidFill>
              <a:latin typeface="Verdana"/>
            </a:endParaRPr>
          </a:p>
          <a:p>
            <a:pPr marL="343080" indent="-343080">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Por exemplo? </a:t>
            </a:r>
            <a:endParaRPr b="0" lang="en-US" sz="3200" spc="-1" strike="noStrike">
              <a:solidFill>
                <a:srgbClr val="ffffff"/>
              </a:solidFill>
              <a:latin typeface="Verdana"/>
            </a:endParaRPr>
          </a:p>
          <a:p>
            <a:pPr lvl="1" marL="743040" indent="-285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ETEMPúblico – Português</a:t>
            </a:r>
            <a:endParaRPr b="0" lang="en-US" sz="2800" spc="-1" strike="noStrike">
              <a:solidFill>
                <a:srgbClr val="ffffff"/>
              </a:solidFill>
              <a:latin typeface="Verdana"/>
            </a:endParaRPr>
          </a:p>
          <a:p>
            <a:pPr lvl="1" marL="743040" indent="-285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rpus da Reuter – Inglês</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Comparabilidade </a:t>
            </a:r>
            <a:br>
              <a:rPr sz="4000"/>
            </a:br>
            <a:r>
              <a:rPr b="0" lang="en-GB" sz="4000" spc="-1" strike="noStrike">
                <a:solidFill>
                  <a:srgbClr val="ccecff"/>
                </a:solidFill>
                <a:latin typeface="Arial"/>
              </a:rPr>
              <a:t>em Corpora Literários</a:t>
            </a:r>
            <a:endParaRPr b="0" lang="en-US" sz="4000" spc="-1" strike="noStrike">
              <a:solidFill>
                <a:srgbClr val="ccec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Período:</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edieval, Século XVIII, Pós-guerra</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Escola:</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Romantismo, Realismo, Pós-modernismo</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Género (Genre):</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Romance, ficção científica, teatro, poesia</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omparabilidade em corpora técnicos e científicos - forma</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Panfleto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Manuai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Livros de ensino</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Artigos e comunicaçõ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Dissertações, tes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omparabilidade em corpora técnicos e científicos - conteúdo</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Informação geral</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Informação enciclopédic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Instruçõ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Educação</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Comunicação entre perito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ccecff"/>
                </a:solidFill>
                <a:latin typeface="Arial"/>
              </a:rPr>
              <a:t>Construir CC – linguagem geral</a:t>
            </a: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Começa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Corpora Muito Grandes comparáveis </a:t>
            </a:r>
            <a:r>
              <a:rPr b="0" lang="pt-PT" sz="3200" spc="-1" strike="noStrike">
                <a:solidFill>
                  <a:srgbClr val="ffffff"/>
                </a:solidFill>
                <a:latin typeface="Verdana"/>
              </a:rPr>
              <a:t>em 2 ou mais línguas &gt;só a página da Comissão Europei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Corpora gerais, cuidadosamente seleccionados – ex. ICAME corpora (Brown, LOB etc) = possível mas limitado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ccecff"/>
                </a:solidFill>
                <a:latin typeface="Arial"/>
              </a:rPr>
              <a:t>Utilizar CC</a:t>
            </a:r>
            <a:br>
              <a:rPr sz="4400"/>
            </a:br>
            <a:r>
              <a:rPr b="0" lang="pt-PT" sz="4400" spc="-1" strike="noStrike">
                <a:solidFill>
                  <a:srgbClr val="ccecff"/>
                </a:solidFill>
                <a:latin typeface="Arial"/>
              </a:rPr>
              <a:t>de linguagem geral </a:t>
            </a:r>
            <a:endParaRPr b="0" lang="en-US" sz="44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Vantagen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Verdana"/>
              </a:rPr>
              <a:t>Investigação comparativa a todos os nívei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Verdana"/>
              </a:rPr>
              <a:t>Úteis para investigação do léxico e das estruturas sintácticas</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Desvantagen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Verdana"/>
              </a:rPr>
              <a:t>Dificuldades para análise mais cuidadosa</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Verdana"/>
              </a:rPr>
              <a:t>Desnecessários para certos tipos de análise</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itações de: </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AGLES - </a:t>
            </a:r>
            <a:r>
              <a:rPr b="1" lang="en-US" sz="3200" spc="-1" strike="noStrike">
                <a:solidFill>
                  <a:srgbClr val="ffffff"/>
                </a:solidFill>
                <a:latin typeface="Verdana"/>
              </a:rPr>
              <a:t>Expert Advisory Group on Language Engineering Standard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Guidelines – 1996 – a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hlinkClick r:id="rId1"/>
              </a:rPr>
              <a:t>http://www.ilc.pi.cnr.it/EAGLES96/browse.htm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ccecff"/>
                </a:solidFill>
                <a:latin typeface="Arial"/>
              </a:rPr>
              <a:t>Construir CC </a:t>
            </a:r>
            <a:br>
              <a:rPr sz="4400"/>
            </a:br>
            <a:r>
              <a:rPr b="0" lang="pt-PT" sz="4400" spc="-1" strike="noStrike">
                <a:solidFill>
                  <a:srgbClr val="ccecff"/>
                </a:solidFill>
                <a:latin typeface="Arial"/>
              </a:rPr>
              <a:t>– Textos de jornais</a:t>
            </a: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Fáceis de adquiri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Grande variedade de tema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Comparáveis a vários nívei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Possível arranjar versões diferentes da ‘mesma’ notícia – ‘concurrent corpor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ccecff"/>
                </a:solidFill>
                <a:latin typeface="Arial"/>
              </a:rPr>
              <a:t>Utilizar CC </a:t>
            </a:r>
            <a:br>
              <a:rPr sz="4400"/>
            </a:br>
            <a:r>
              <a:rPr b="0" lang="pt-PT" sz="4400" spc="-1" strike="noStrike">
                <a:solidFill>
                  <a:srgbClr val="ccecff"/>
                </a:solidFill>
                <a:latin typeface="Arial"/>
              </a:rPr>
              <a:t>– Textos de jornais</a:t>
            </a: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Comparação de tratamento de notícia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ex.</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Verdana"/>
              </a:rPr>
              <a:t>Política – campanhas eleitoriai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Verdana"/>
              </a:rPr>
              <a:t>Futebol durante a Taça Mundial</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OU &gt; estilos de jornalistas individuai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ccecff"/>
                </a:solidFill>
                <a:latin typeface="Arial"/>
              </a:rPr>
              <a:t>Construir CC – linguagem geral + textos semelhantes</a:t>
            </a:r>
            <a:endParaRPr b="0" lang="en-US" sz="4000" spc="-1" strike="noStrike">
              <a:solidFill>
                <a:srgbClr val="ccecff"/>
              </a:solidFill>
              <a:latin typeface="Arial"/>
            </a:endParaRPr>
          </a:p>
        </p:txBody>
      </p:sp>
      <p:sp>
        <p:nvSpPr>
          <p:cNvPr id="198" name="PlaceHolder 2"/>
          <p:cNvSpPr>
            <a:spLocks noGrp="1"/>
          </p:cNvSpPr>
          <p:nvPr>
            <p:ph/>
          </p:nvPr>
        </p:nvSpPr>
        <p:spPr>
          <a:xfrm>
            <a:off x="684000" y="1915920"/>
            <a:ext cx="7924680" cy="45385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Tipos de texto semelhante: ex. Entradas em enciclopédias, publicidade turístic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Textos literários do mesmo autor, período, escola ou ‘genre’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Textos técnicos e científicos com uma forma ou função semelhante – ex. Livros de ensin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692280"/>
            <a:ext cx="8291520" cy="1157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ccecff"/>
                </a:solidFill>
                <a:latin typeface="Arial"/>
              </a:rPr>
              <a:t>Utilizar CC – linguagem geral + textos semelhantes</a:t>
            </a:r>
            <a:endParaRPr b="0" lang="en-US" sz="4400" spc="-1" strike="noStrike">
              <a:solidFill>
                <a:srgbClr val="ccecff"/>
              </a:solidFill>
              <a:latin typeface="Arial"/>
            </a:endParaRPr>
          </a:p>
        </p:txBody>
      </p:sp>
      <p:sp>
        <p:nvSpPr>
          <p:cNvPr id="200" name="PlaceHolder 2"/>
          <p:cNvSpPr>
            <a:spLocks noGrp="1"/>
          </p:cNvSpPr>
          <p:nvPr>
            <p:ph/>
          </p:nvPr>
        </p:nvSpPr>
        <p:spPr>
          <a:xfrm>
            <a:off x="685440" y="2742840"/>
            <a:ext cx="7924680" cy="33526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Pragmátic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Análise do discurso</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Análise de ‘genr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Análise sociolinguístico</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Análise cultural</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ccecff"/>
                </a:solidFill>
                <a:latin typeface="Arial"/>
              </a:rPr>
              <a:t>Construir CC – domínios especializados </a:t>
            </a:r>
            <a:endParaRPr b="0" lang="en-US" sz="4400" spc="-1" strike="noStrike">
              <a:solidFill>
                <a:srgbClr val="ccecff"/>
              </a:solidFill>
              <a:latin typeface="Arial"/>
            </a:endParaRPr>
          </a:p>
        </p:txBody>
      </p:sp>
      <p:sp>
        <p:nvSpPr>
          <p:cNvPr id="202" name="PlaceHolder 2"/>
          <p:cNvSpPr>
            <a:spLocks noGrp="1"/>
          </p:cNvSpPr>
          <p:nvPr>
            <p:ph/>
          </p:nvPr>
        </p:nvSpPr>
        <p:spPr>
          <a:xfrm>
            <a:off x="685440" y="2438280"/>
            <a:ext cx="79246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Domínios especializados a níveis diferentes – ex.</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Verdana"/>
              </a:rPr>
              <a:t>Geografia &gt; demografia da população &gt; minorias étnicas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Verdana"/>
              </a:rPr>
              <a:t>Engenharia &gt; engenharia mecânica &gt; tribologia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Verdana"/>
              </a:rPr>
              <a:t>Medicina &gt; oncologia &gt; cancro da mam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ccecff"/>
                </a:solidFill>
                <a:latin typeface="Arial"/>
              </a:rPr>
              <a:t>Utilizar CC – domínios especializados </a:t>
            </a:r>
            <a:endParaRPr b="0" lang="en-US" sz="4400" spc="-1" strike="noStrike">
              <a:solidFill>
                <a:srgbClr val="ccecff"/>
              </a:solidFill>
              <a:latin typeface="Arial"/>
            </a:endParaRPr>
          </a:p>
        </p:txBody>
      </p:sp>
      <p:sp>
        <p:nvSpPr>
          <p:cNvPr id="204" name="PlaceHolder 2"/>
          <p:cNvSpPr>
            <a:spLocks noGrp="1"/>
          </p:cNvSpPr>
          <p:nvPr>
            <p:ph/>
          </p:nvPr>
        </p:nvSpPr>
        <p:spPr>
          <a:xfrm>
            <a:off x="685440" y="2285640"/>
            <a:ext cx="7924680" cy="38098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Análise de ‘genr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Extracção de terminologi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Pesquisa de informação</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Tecnologia de ‘browser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Engenharia do conhecimento</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ccecff"/>
                </a:solidFill>
                <a:latin typeface="Arial"/>
              </a:rPr>
              <a:t>A construcção de CC - deve</a:t>
            </a:r>
            <a:endParaRPr b="0" lang="en-US" sz="4400" spc="-1" strike="noStrike">
              <a:solidFill>
                <a:srgbClr val="ccec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Estabelecer uma política geral em relação: </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Verdana"/>
              </a:rPr>
              <a:t>À forma – estrutura computacional</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Verdana"/>
              </a:rPr>
              <a:t>Ao conteúdo dos sub-corpora</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Verdana"/>
              </a:rPr>
              <a:t>À possibilidade de partilhar os recursos com um público geral ou restrito</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Especificar os objectivos para a construção dos sub-corpora</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ccecff"/>
                </a:solidFill>
                <a:latin typeface="Arial"/>
              </a:rPr>
              <a:t>A construção de CC - deve</a:t>
            </a:r>
            <a:endParaRPr b="0" lang="en-US" sz="44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Verdana"/>
              </a:rPr>
              <a:t>Respeitar os direitos de autor (‘copyright’)</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Verdana"/>
              </a:rPr>
              <a:t>Lembrar factores contextuais e/ou exteriores ao texto</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Verdana"/>
              </a:rPr>
              <a:t>O estilo e particularidades do autor individual</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Verdana"/>
              </a:rPr>
              <a:t>As convenções da escrita numa situação específica cultural/social</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Verdana"/>
              </a:rPr>
              <a:t>Efeito homogenizante da internacionalização</a:t>
            </a:r>
            <a:endParaRPr b="0" lang="en-US" sz="2400" spc="-1" strike="noStrike">
              <a:solidFill>
                <a:srgbClr val="ffffff"/>
              </a:solidFill>
              <a:latin typeface="Verdana"/>
            </a:endParaRPr>
          </a:p>
          <a:p>
            <a:pPr lvl="2" marL="1143000" indent="-22860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Verdana"/>
              </a:rPr>
              <a:t>‘</a:t>
            </a:r>
            <a:r>
              <a:rPr b="0" lang="pt-PT" sz="2000" spc="-1" strike="noStrike">
                <a:solidFill>
                  <a:srgbClr val="ffffff"/>
                </a:solidFill>
                <a:latin typeface="Verdana"/>
              </a:rPr>
              <a:t>Eurospeak’</a:t>
            </a:r>
            <a:endParaRPr b="0" lang="en-US" sz="2000" spc="-1" strike="noStrike">
              <a:solidFill>
                <a:srgbClr val="ffffff"/>
              </a:solidFill>
              <a:latin typeface="Verdana"/>
            </a:endParaRPr>
          </a:p>
          <a:p>
            <a:pPr lvl="2" marL="1143000" indent="-22860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Verdana"/>
              </a:rPr>
              <a:t>Anglicismos em terminologia científica e técnica</a:t>
            </a:r>
            <a:endParaRPr b="0" lang="en-US" sz="2000" spc="-1" strike="noStrike">
              <a:solidFill>
                <a:srgbClr val="ffffff"/>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C - limitações</a:t>
            </a: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Qualquer corpus pequeno é construído para um fim específico – ex. extracção de terminologia, análise de ‘genre’, estudo contrastivo de língua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Estes corpora têm um uso específico e um ‘prazo de validad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609480"/>
            <a:ext cx="77724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ccecff"/>
                </a:solidFill>
                <a:latin typeface="Arial"/>
              </a:rPr>
              <a:t>Corpógrafo - permite</a:t>
            </a:r>
            <a:br>
              <a:rPr sz="4400"/>
            </a:br>
            <a:endParaRPr b="0" lang="en-US" sz="4400" spc="-1" strike="noStrike">
              <a:solidFill>
                <a:srgbClr val="ccecff"/>
              </a:solidFill>
              <a:latin typeface="Arial"/>
            </a:endParaRPr>
          </a:p>
        </p:txBody>
      </p:sp>
      <p:sp>
        <p:nvSpPr>
          <p:cNvPr id="212"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Verdana"/>
              </a:rPr>
              <a:t>Construir CC em várias língua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Verdana"/>
              </a:rPr>
              <a:t>Analisar a linguagem dos textos com concordâncias, n-gramas, etc</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Verdana"/>
              </a:rPr>
              <a:t>Extrair terminologia semi-automaticament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Verdana"/>
              </a:rPr>
              <a:t>Criar bases de dados terminológica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Verdana"/>
              </a:rPr>
              <a:t>Extrair definições e relações semânticas semi-automaticamente</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arable corpora - definition</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A comparable corpus is one which selects similar texts in more than one language or variety. There is as yet no agreement on the nature of the similarity, because there are very few examples of comparable corpora”.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arable corpora - uses</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The possibilities of a comparable corpus are to compare different languages or varieties in similar circumstances of communication, but avoiding the inevitable distortion introduced by the translations of a parallel corpus”.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orpora Comparáveis (CC)</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extos que reflectem as convenções da cultura subjacente </a:t>
            </a:r>
            <a:endParaRPr b="0" lang="en-US" sz="3200" spc="-1" strike="noStrike">
              <a:solidFill>
                <a:srgbClr val="ffffff"/>
              </a:solidFill>
              <a:latin typeface="Verdana"/>
            </a:endParaRPr>
          </a:p>
          <a:p>
            <a:pPr marL="322200" indent="-3222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extos legais do sistema legal local </a:t>
            </a:r>
            <a:endParaRPr b="0" lang="en-US" sz="3200" spc="-1" strike="noStrike">
              <a:solidFill>
                <a:srgbClr val="ffffff"/>
              </a:solidFill>
              <a:latin typeface="Verdana"/>
            </a:endParaRPr>
          </a:p>
          <a:p>
            <a:pPr marL="322200" indent="-3222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extos socialmente convencionados: participações de falecimentos, anúncios de casas ou empregos</a:t>
            </a:r>
            <a:endParaRPr b="0" lang="en-US" sz="3200" spc="-1" strike="noStrike">
              <a:solidFill>
                <a:srgbClr val="ffffff"/>
              </a:solidFill>
              <a:latin typeface="Verdana"/>
            </a:endParaRPr>
          </a:p>
          <a:p>
            <a:pPr marL="322200" indent="-3222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extos académicos / científicos – convenções diferentes em culturas e domínios diferent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C – Vantagens</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Disponibilidade de mais textos – e mais variedad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Versatilidade para investigação e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Análise do discurso</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Pragmática</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Pesquisa de informação</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Engenharia do conhecimento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
          <p:cNvSpPr/>
          <p:nvPr/>
        </p:nvSpPr>
        <p:spPr>
          <a:xfrm>
            <a:off x="533520" y="1143000"/>
            <a:ext cx="815328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6600" spc="-1" strike="noStrike">
                <a:solidFill>
                  <a:srgbClr val="ccecff"/>
                </a:solidFill>
                <a:latin typeface="Times New Roman"/>
              </a:rPr>
              <a:t>O que torna </a:t>
            </a: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6600" spc="-1" strike="noStrike">
                <a:solidFill>
                  <a:srgbClr val="ccecff"/>
                </a:solidFill>
                <a:latin typeface="Times New Roman"/>
              </a:rPr>
              <a:t>textos/corpora </a:t>
            </a: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6600" spc="-1" strike="noStrike">
                <a:solidFill>
                  <a:srgbClr val="ccecff"/>
                </a:solidFill>
                <a:latin typeface="Times New Roman"/>
              </a:rPr>
              <a:t>COMPARÁVEIS?</a:t>
            </a:r>
            <a:r>
              <a:rPr b="0" lang="pt-PT" sz="4400" spc="-1" strike="noStrike">
                <a:solidFill>
                  <a:srgbClr val="ccecff"/>
                </a:solidFill>
                <a:latin typeface="Times New Roman"/>
              </a:rPr>
              <a:t>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EAGLES - quote</a:t>
            </a:r>
            <a:r>
              <a:rPr b="0" lang="pt-PT" sz="4400" spc="-1" strike="noStrike">
                <a:solidFill>
                  <a:srgbClr val="ccecff"/>
                </a:solidFill>
                <a:latin typeface="Arial"/>
              </a:rPr>
              <a:t>s</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a:t>
            </a:r>
            <a:r>
              <a:rPr b="0" lang="en-GB" sz="3200" spc="-1" strike="noStrike">
                <a:solidFill>
                  <a:srgbClr val="ffffff"/>
                </a:solidFill>
                <a:latin typeface="Verdana"/>
              </a:rPr>
              <a:t>A comparable corpus is one which selects similar texts in more than one language or variety”.</a:t>
            </a:r>
            <a:endParaRPr b="0" lang="en-US" sz="3200" spc="-1" strike="noStrike">
              <a:solidFill>
                <a:srgbClr val="ffffff"/>
              </a:solidFill>
              <a:latin typeface="Verdana"/>
            </a:endParaRPr>
          </a:p>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Similar – em mais do que uma língua</a:t>
            </a:r>
            <a:endParaRPr b="0" lang="en-US" sz="3200" spc="-1" strike="noStrike">
              <a:solidFill>
                <a:srgbClr val="ffffff"/>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Verdana"/>
              </a:rPr>
              <a:t>E/OU</a:t>
            </a:r>
            <a:endParaRPr b="0" lang="en-US" sz="3200" spc="-1" strike="noStrike">
              <a:solidFill>
                <a:srgbClr val="ffffff"/>
              </a:solidFill>
              <a:latin typeface="Verdana"/>
            </a:endParaRPr>
          </a:p>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Similar – em variedad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Verdana"/>
              </a:rPr>
              <a:t>“</a:t>
            </a:r>
            <a:r>
              <a:rPr b="0" lang="pt-PT" sz="3200" spc="-1" strike="noStrike">
                <a:solidFill>
                  <a:srgbClr val="ffffff"/>
                </a:solidFill>
                <a:latin typeface="Verdana"/>
              </a:rPr>
              <a:t>... circunstâncias </a:t>
            </a:r>
            <a:r>
              <a:rPr b="0" lang="en-GB" sz="3200" spc="-1" strike="noStrike">
                <a:solidFill>
                  <a:srgbClr val="ffffff"/>
                </a:solidFill>
                <a:latin typeface="Verdana"/>
              </a:rPr>
              <a:t>similares de communicação</a:t>
            </a:r>
            <a:r>
              <a:rPr b="0" lang="pt-PT"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Similares em </a:t>
            </a:r>
            <a:br>
              <a:rPr sz="4000"/>
            </a:br>
            <a:r>
              <a:rPr b="0" lang="en-GB" sz="4000" spc="-1" strike="noStrike">
                <a:solidFill>
                  <a:srgbClr val="ccecff"/>
                </a:solidFill>
                <a:latin typeface="Arial"/>
              </a:rPr>
              <a:t>– Forma/conteúdo?</a:t>
            </a:r>
            <a:endParaRPr b="0" lang="en-US" sz="40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Forma</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Tamanho&gt; num. de palavras, frases, parágrafo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Tamanho dos texto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Formato - .txt, .doc, .html, .xml</a:t>
            </a:r>
            <a:r>
              <a:rPr b="0" lang="en-GB"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Conteúdo</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Linguagem geral</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Domínios especializado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1T00:05:55Z</dcterms:created>
  <dc:creator>Belinda</dc:creator>
  <dc:description/>
  <dc:language>en-US</dc:language>
  <cp:lastModifiedBy>Diana</cp:lastModifiedBy>
  <dcterms:modified xsi:type="dcterms:W3CDTF">2006-09-04T17:56:50Z</dcterms:modified>
  <cp:revision>25</cp:revision>
  <dc:subject/>
  <dc:title>Creating parallel and comparable corpora for work in domain specific areas of language </dc:title>
</cp:coreProperties>
</file>