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A92A-B74A-4C66-829B-36258B28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6746-9BCA-4B01-B1AD-EBB5C52B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B650-D9D0-48E0-8067-74BD7BDE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D20D-DEC6-4C73-B461-9F1B5BB5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8C5D-0134-4BCA-8B5D-E59D0203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44E4-89CD-4450-A3AC-00316D9E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66F0-26B4-4FC0-8584-45AD5CF7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F3D2-AC05-4A17-BB85-4C3B251E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A885-87F3-41E9-813A-28DB9885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3A62-A104-44D2-87DB-DCDA13BB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E8C2-EE1A-42F6-A03C-7F19E677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5AF2-1B69-4685-9CE3-AD6B0C8F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c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c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1BC7-8755-4EEA-94D2-E1D6DABBBDC1}" type="slidenum">
              <a:rPr b="0" lang="en-US" sz="14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66ccff"/>
                </a:solidFill>
                <a:latin typeface="Arial"/>
              </a:rPr>
              <a:t>Corpora e ensino de línguas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ccff"/>
                </a:solidFill>
                <a:latin typeface="Arial"/>
              </a:rPr>
              <a:t>Ana Frankenberg-Garcia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4600" y="88920"/>
            <a:ext cx="89438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ccff"/>
                </a:solidFill>
                <a:latin typeface="Arial"/>
              </a:rPr>
              <a:t>Como é que se diz “rezar o terço” em inglês?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cc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ccff"/>
                </a:solidFill>
                <a:latin typeface="Arial"/>
              </a:rPr>
              <a:t>BNC não serve (por onde procurar?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ccff"/>
                </a:solidFill>
                <a:latin typeface="Arial"/>
              </a:rPr>
              <a:t>COMPARA serve de dicionário bilingue com contexto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865160"/>
          <a:ext cx="8229600" cy="4659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um terço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de todas as empresas de engenharia nas West Midlands fecharam. </a:t>
                      </a:r>
                      <a:endParaRPr b="0" lang="en-US" sz="1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1368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one-third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of all the engineering companies in the West Midlands have closed down. </a:t>
                      </a:r>
                      <a:endParaRPr b="0" lang="en-US" sz="1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ff"/>
                      </a:solidFill>
                    </a:lnL>
                    <a:lnR w="13680">
                      <a:solidFill>
                        <a:srgbClr val="ccccff"/>
                      </a:solidFill>
                    </a:lnR>
                    <a:lnT w="1368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mo tal soma era quase </a:t>
                      </a:r>
                      <a:r>
                        <a:rPr b="0" lang="en-GB" sz="18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um terço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do seu salário, Philip pensou que encontrara a desculpa ideal para…</a:t>
                      </a:r>
                      <a:endParaRPr b="0" lang="en-US" sz="1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 this sum was nearly </a:t>
                      </a:r>
                      <a:r>
                        <a:rPr b="0" lang="en-US" sz="18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a third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of his total stipend, Philip thought he had found the perfect excuse for…</a:t>
                      </a:r>
                      <a:endParaRPr b="0" lang="en-US" sz="1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ff"/>
                      </a:solidFill>
                    </a:lnL>
                    <a:lnR w="1368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Rezar o terço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em voz alta e às claras na mesma situação já era mais problemático. </a:t>
                      </a:r>
                      <a:endParaRPr b="0" lang="en-US" sz="1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To say the Rosary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openly and aloud in such a situation was more problematical. </a:t>
                      </a:r>
                      <a:endParaRPr b="0" lang="en-US" sz="1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ff"/>
                      </a:solidFill>
                    </a:lnL>
                    <a:lnR w="1368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m todo o caso a essa hora quero estar já de porta fechada, e tudo pronto, para </a:t>
                      </a:r>
                      <a:r>
                        <a:rPr b="0" lang="en-GB" sz="18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começarmos o terço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1368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ut no later than that. I want the door shut by then and be ready </a:t>
                      </a:r>
                      <a:r>
                        <a:rPr b="0" lang="en-US" sz="18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to say the rosary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´ </a:t>
                      </a:r>
                      <a:endParaRPr b="0" lang="en-US" sz="1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ff"/>
                      </a:solidFill>
                    </a:lnL>
                    <a:lnR w="1368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1368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2440" y="1700280"/>
            <a:ext cx="8638920" cy="2228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If you wish to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roas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your own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coffe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, you should…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The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nut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are picked and dried in the sun, and then placed in a fire to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roas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The 32 guests enjoyed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roas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turke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…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to be taken with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roas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lamb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…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generous portions of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roas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chicke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Swathes of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roas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beef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and perfect Yorkshire puddings. 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…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pulling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roas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chestnut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out of a grate. 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4840" y="4282920"/>
            <a:ext cx="6409440" cy="2533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…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the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bake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brea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tends to collapse on cooling… 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ASADILLO (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Bake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pepper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and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tomato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) 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…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serve sausage and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bake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bean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by the fire. 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A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bake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potat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and some porridge, you know. 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…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a freshly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bake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baguet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for breakfast. 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…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artichoke heart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bake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with olive oil and garlic…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…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plum tarts and custards, crumbles and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bake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apples.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wonderful whole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Arial"/>
              </a:rPr>
              <a:t>baked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fish dishes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76500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ccff"/>
                </a:solidFill>
                <a:latin typeface="Arial"/>
              </a:rPr>
              <a:t>COMPARA não serve (muito pequeno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ccff"/>
                </a:solidFill>
                <a:latin typeface="Arial"/>
              </a:rPr>
              <a:t>BNC permite ver alimentos que combinam com “roast” e “bake”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3040" y="209520"/>
            <a:ext cx="79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ccff"/>
                </a:solidFill>
                <a:latin typeface="Arial"/>
              </a:rPr>
              <a:t>Em inglês diz-se “roast fish” ou “baked fish”?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181080" y="4392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ccff"/>
                </a:solidFill>
                <a:latin typeface="Arial"/>
              </a:rPr>
              <a:t>O que significa “however” na frase</a:t>
            </a:r>
            <a:r>
              <a:rPr b="0" lang="pt-PT" sz="2400" spc="-1" strike="noStrike">
                <a:solidFill>
                  <a:srgbClr val="66ccff"/>
                </a:solidFill>
                <a:latin typeface="Arial"/>
              </a:rPr>
              <a:t> </a:t>
            </a:r>
            <a:br>
              <a:rPr sz="2400"/>
            </a:br>
            <a:r>
              <a:rPr b="1" lang="pt-PT" sz="2400" spc="-1" strike="noStrike">
                <a:solidFill>
                  <a:srgbClr val="66ccff"/>
                </a:solidFill>
                <a:latin typeface="Arial"/>
              </a:rPr>
              <a:t>“No programme, however good, can replace the teacher”?</a:t>
            </a:r>
            <a:endParaRPr b="0" lang="en-US" sz="2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117440"/>
            <a:ext cx="8748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ccff"/>
                </a:solidFill>
                <a:latin typeface="Arial"/>
              </a:rPr>
              <a:t>BNC pouco eficiente, demasiados resultados  para “however”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ccff"/>
                </a:solidFill>
                <a:latin typeface="Arial"/>
              </a:rPr>
              <a:t>COMPARA contrasta o sentido de “contudo” com o sentido  menos típico em causa, e a tradução ajuda...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22200" y="2397240"/>
          <a:ext cx="8713800" cy="4271760"/>
        </p:xfrm>
        <a:graphic>
          <a:graphicData uri="http://schemas.openxmlformats.org/drawingml/2006/table">
            <a:tbl>
              <a:tblPr/>
              <a:tblGrid>
                <a:gridCol w="4357800"/>
                <a:gridCol w="4356000"/>
              </a:tblGrid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here’s something special about every single episode of a sitcom, </a:t>
                      </a:r>
                      <a:r>
                        <a:rPr b="1" lang="en-US" sz="16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however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trite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and formulaic it may be …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1368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… </a:t>
                      </a:r>
                      <a:r>
                        <a:rPr b="0" lang="pt-B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á qualquer coisa de especial em cada episódio de uma série televisiva, </a:t>
                      </a:r>
                      <a:r>
                        <a:rPr b="1" lang="pt-BR" sz="16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mesmo que seja muito</a:t>
                      </a:r>
                      <a:r>
                        <a:rPr b="0" lang="pt-B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banal</a:t>
                      </a:r>
                      <a:r>
                        <a:rPr b="0" lang="pt-B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e siga sempre a mesma fórmula …</a:t>
                      </a:r>
                      <a:endParaRPr b="0" lang="en-US" sz="16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ff"/>
                      </a:solidFill>
                    </a:lnL>
                    <a:lnR w="13680">
                      <a:solidFill>
                        <a:srgbClr val="ccccff"/>
                      </a:solidFill>
                    </a:lnR>
                    <a:lnT w="1368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ctors, </a:t>
                      </a:r>
                      <a:r>
                        <a:rPr b="1" lang="en-US" sz="16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however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regard writers with respect, even a certain awe.</a:t>
                      </a:r>
                      <a:endParaRPr b="0" lang="en-US" sz="16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Mas</a:t>
                      </a:r>
                      <a:r>
                        <a:rPr b="0" lang="pt-B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os actores têm respeito, ou até mesmo um certo temor, em relação aos autores.</a:t>
                      </a:r>
                      <a:endParaRPr b="0" lang="en-US" sz="16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ff"/>
                      </a:solidFill>
                    </a:lnL>
                    <a:lnR w="1368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cently, </a:t>
                      </a:r>
                      <a:r>
                        <a:rPr b="1" lang="en-US" sz="16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however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it’s been converted into a glazed and tiled atrium …</a:t>
                      </a:r>
                      <a:endParaRPr b="0" lang="en-US" sz="16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Contudo</a:t>
                      </a:r>
                      <a:r>
                        <a:rPr b="0" lang="pt-B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foi recentemente transformado num átrio com telhado de vidro e chão de mosaicos </a:t>
                      </a:r>
                      <a:endParaRPr b="0" lang="en-US" sz="16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ff"/>
                      </a:solidFill>
                    </a:lnL>
                    <a:lnR w="1368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ut if it doesn’t occasionally touch on the deeper, darker side of life, </a:t>
                      </a:r>
                      <a:r>
                        <a:rPr b="1" lang="en-GB" sz="16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however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glancingly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then the audience won’t believe in the characters …</a:t>
                      </a:r>
                      <a:endParaRPr b="0" lang="en-US" sz="16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1368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s, se não tocar ocasionalmente no lado mais profundo e mais obscuro da vida, </a:t>
                      </a:r>
                      <a:r>
                        <a:rPr b="1" lang="pt-BR" sz="16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por muito</a:t>
                      </a:r>
                      <a:r>
                        <a:rPr b="0" lang="pt-B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superficialmente</a:t>
                      </a:r>
                      <a:r>
                        <a:rPr b="0" lang="pt-B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que seja</a:t>
                      </a:r>
                      <a:r>
                        <a:rPr b="0" lang="pt-B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o público deixa de acreditar nas personagens</a:t>
                      </a:r>
                      <a:r>
                        <a:rPr b="0" lang="pt-PT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…</a:t>
                      </a:r>
                      <a:endParaRPr b="0" lang="en-US" sz="16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ff"/>
                      </a:solidFill>
                    </a:lnL>
                    <a:lnR w="1368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1368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66ccff"/>
                </a:solidFill>
                <a:latin typeface="Arial"/>
              </a:rPr>
              <a:t>Por que razão o professor marcou errado</a:t>
            </a:r>
            <a:br>
              <a:rPr sz="3200"/>
            </a:br>
            <a:r>
              <a:rPr b="0" lang="pt-PT" sz="3200" spc="-1" strike="noStrike">
                <a:solidFill>
                  <a:srgbClr val="66ccff"/>
                </a:solidFill>
                <a:latin typeface="Arial"/>
              </a:rPr>
              <a:t>“I don’t like informatics”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58920" y="134136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ccff"/>
                </a:solidFill>
                <a:latin typeface="Arial"/>
              </a:rPr>
              <a:t>COMPARA não serve (textos de ficção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ccff"/>
                </a:solidFill>
                <a:latin typeface="Arial"/>
              </a:rPr>
              <a:t>BNC permite observar uso diferenciado                                         de “informatics” e “computers”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2625840"/>
            <a:ext cx="8353440" cy="1739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The Faculty of </a:t>
            </a:r>
            <a:r>
              <a:rPr b="1" lang="en-GB" sz="1800" spc="-1" strike="noStrike">
                <a:solidFill>
                  <a:srgbClr val="0066cc"/>
                </a:solidFill>
                <a:latin typeface="Arial"/>
              </a:rPr>
              <a:t>Informatics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has four departments: Applied Computing, Computing Science, Information Systems, and Mathematics.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ll the Faculty’s students will, by the time they graduate, have been trained to bring to their work an awareness of </a:t>
            </a:r>
            <a:r>
              <a:rPr b="1" lang="en-GB" sz="1800" spc="-1" strike="noStrike">
                <a:solidFill>
                  <a:srgbClr val="0066cc"/>
                </a:solidFill>
                <a:latin typeface="Arial"/>
              </a:rPr>
              <a:t>informatics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as a key force in social change and economic advance.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systematic study of information technology (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informatic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is in its infancy …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4491000"/>
            <a:ext cx="8424720" cy="2014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r me, my Mont Blanc is a reminder that 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computer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can’t do everything and an incentive to improve my handwriting.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ospitals now need expensive body-scanners; schools need expensive 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computer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Computer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will never replace executives’, Robert Lucky reassured them.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se days everyone uses 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computer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and I didn’t want to look an idiot if I told people I didn’t have a clue how to work one!’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1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66ccff"/>
                </a:solidFill>
                <a:latin typeface="Arial"/>
              </a:rPr>
              <a:t>Resumir não é “to resume”?</a:t>
            </a:r>
            <a:endParaRPr b="0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1600200"/>
          <a:ext cx="8507520" cy="2266920"/>
        </p:xfrm>
        <a:graphic>
          <a:graphicData uri="http://schemas.openxmlformats.org/drawingml/2006/table">
            <a:tbl>
              <a:tblPr/>
              <a:tblGrid>
                <a:gridCol w="4254480"/>
                <a:gridCol w="4253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… </a:t>
                      </a:r>
                      <a:r>
                        <a:rPr b="0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ra </a:t>
                      </a:r>
                      <a:r>
                        <a:rPr b="0" lang="pt-PT" sz="18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resumir</a:t>
                      </a:r>
                      <a:r>
                        <a:rPr b="0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Morris Zapp não conseguia imaginar nada que quisesse e ainda não tivesse alcançado …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1368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18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in short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Morris Zapp could think of nothing he wanted to achieve that he hadn’t achieved already … </a:t>
                      </a:r>
                      <a:endParaRPr b="0" lang="en-US" sz="1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ff"/>
                      </a:solidFill>
                    </a:lnL>
                    <a:lnR w="13680">
                      <a:solidFill>
                        <a:srgbClr val="ccccff"/>
                      </a:solidFill>
                    </a:lnR>
                    <a:lnT w="1368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0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m lhe chamo, porque </a:t>
                      </a:r>
                      <a:r>
                        <a:rPr b="0" lang="pt-PT" sz="18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resume</a:t>
                      </a:r>
                      <a:r>
                        <a:rPr b="0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o universo, e o universo é o homem.</a:t>
                      </a:r>
                      <a:endParaRPr b="0" lang="en-US" sz="1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hat’s what I call it, because it </a:t>
                      </a:r>
                      <a:r>
                        <a:rPr b="0" lang="en-US" sz="18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sums up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the universe and the universe is man.</a:t>
                      </a:r>
                      <a:endParaRPr b="0" lang="en-US" sz="1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ff"/>
                      </a:solidFill>
                    </a:lnL>
                    <a:lnR w="1368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ou aqui </a:t>
                      </a:r>
                      <a:r>
                        <a:rPr b="0" lang="pt-PT" sz="18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resumindo</a:t>
                      </a:r>
                      <a:r>
                        <a:rPr b="0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como posso, as esperanças de Natividade.</a:t>
                      </a:r>
                      <a:endParaRPr b="0" lang="en-US" sz="1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1368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 </a:t>
                      </a:r>
                      <a:r>
                        <a:rPr b="0" lang="en-GB" sz="18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summarize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here, as best I can, Natividade’s hopes.</a:t>
                      </a:r>
                      <a:endParaRPr b="0" lang="en-US" sz="1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ff"/>
                      </a:solidFill>
                    </a:lnL>
                    <a:lnR w="1368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1368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619920" y="633240"/>
            <a:ext cx="822132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ccff"/>
                </a:solidFill>
                <a:latin typeface="Arial"/>
              </a:rPr>
              <a:t>BNC pouco eficiente, não mostra o contrast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ccff"/>
                </a:solidFill>
                <a:latin typeface="Arial"/>
              </a:rPr>
              <a:t>COMPARA evidencia problemas de interferência linguística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68360" y="4221000"/>
          <a:ext cx="8496000" cy="2360520"/>
        </p:xfrm>
        <a:graphic>
          <a:graphicData uri="http://schemas.openxmlformats.org/drawingml/2006/table">
            <a:tbl>
              <a:tblPr/>
              <a:tblGrid>
                <a:gridCol w="4249080"/>
                <a:gridCol w="4246920"/>
              </a:tblGrid>
              <a:tr h="7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8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resumes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work …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1368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ob Busby </a:t>
                      </a:r>
                      <a:r>
                        <a:rPr b="0" lang="pt-PT" sz="18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continua</a:t>
                      </a:r>
                      <a:r>
                        <a:rPr b="0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o seu trabalho … </a:t>
                      </a:r>
                      <a:endParaRPr b="0" lang="en-US" sz="1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ff"/>
                      </a:solidFill>
                    </a:lnL>
                    <a:lnR w="13680">
                      <a:solidFill>
                        <a:srgbClr val="ccccff"/>
                      </a:solidFill>
                    </a:lnR>
                    <a:lnT w="1368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8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resumes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his interrupted journey to the toilet …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Conclui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a viagem até ao lavab</a:t>
                      </a:r>
                      <a:r>
                        <a:rPr b="0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  …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ff"/>
                      </a:solidFill>
                    </a:lnL>
                    <a:lnR w="1368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e turned resolutely back towards the hill and </a:t>
                      </a:r>
                      <a:r>
                        <a:rPr b="0" lang="en-US" sz="18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resumed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his progress upwards.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1368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solutamente, deu meia volta, ficou virado para a colina e </a:t>
                      </a:r>
                      <a:r>
                        <a:rPr b="0" lang="pt-PT" sz="18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retomou</a:t>
                      </a:r>
                      <a:r>
                        <a:rPr b="0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o caminho íngreme.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ff"/>
                      </a:solidFill>
                    </a:lnL>
                    <a:lnR w="1368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1368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66ccff"/>
                </a:solidFill>
                <a:latin typeface="Arial"/>
              </a:rPr>
              <a:t>Preciso de arranjar umas frases </a:t>
            </a:r>
            <a:br>
              <a:rPr sz="3200"/>
            </a:br>
            <a:r>
              <a:rPr b="0" lang="pt-PT" sz="3200" spc="-1" strike="noStrike">
                <a:solidFill>
                  <a:srgbClr val="66ccff"/>
                </a:solidFill>
                <a:latin typeface="Arial"/>
              </a:rPr>
              <a:t>para treinar/testar o uso de preposições   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77760" y="1353960"/>
            <a:ext cx="649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ccff"/>
                </a:solidFill>
                <a:latin typeface="Arial"/>
              </a:rPr>
              <a:t>BNC ajuda criar testes/exercícios monolingues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58920" y="1916280"/>
            <a:ext cx="593676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'm good ____ maths, technical and practical subjects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lice should be married ____ Richard.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igher Education in Britain is divided _____ two sectors.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gratulations _____ the birth of your son/daughter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08960" y="1773360"/>
            <a:ext cx="50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66cc"/>
                </a:solidFill>
                <a:latin typeface="Comic Sans MS"/>
              </a:rPr>
              <a:t>at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7920" y="2060640"/>
            <a:ext cx="5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66cc"/>
                </a:solidFill>
                <a:latin typeface="Comic Sans MS"/>
              </a:rPr>
              <a:t>to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37480" y="234936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66cc"/>
                </a:solidFill>
                <a:latin typeface="Comic Sans MS"/>
              </a:rPr>
              <a:t>into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30120" y="2622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66cc"/>
                </a:solidFill>
                <a:latin typeface="Comic Sans MS"/>
              </a:rPr>
              <a:t>on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3040" y="3205080"/>
            <a:ext cx="88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ccff"/>
                </a:solidFill>
                <a:latin typeface="Arial"/>
              </a:rPr>
              <a:t>COMPARA ajuda criar testes/exercícios que envolvem tradução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90400" y="3860640"/>
          <a:ext cx="8229600" cy="2664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… </a:t>
                      </a:r>
                      <a:r>
                        <a:rPr b="0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lhares de pessoas </a:t>
                      </a:r>
                      <a:r>
                        <a:rPr b="1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orriam</a:t>
                      </a:r>
                      <a:r>
                        <a:rPr b="0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diariamente </a:t>
                      </a:r>
                      <a:r>
                        <a:rPr b="1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m</a:t>
                      </a:r>
                      <a:r>
                        <a:rPr b="0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SIDA em África … </a:t>
                      </a:r>
                      <a:endParaRPr b="0" lang="en-US" sz="1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1368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housands 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ed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daily 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____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AIDS in Africa …</a:t>
                      </a:r>
                      <a:endParaRPr b="0" lang="en-US" sz="1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ff"/>
                      </a:solidFill>
                    </a:lnL>
                    <a:lnR w="13680">
                      <a:solidFill>
                        <a:srgbClr val="ccccff"/>
                      </a:solidFill>
                    </a:lnR>
                    <a:lnT w="1368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… </a:t>
                      </a:r>
                      <a:r>
                        <a:rPr b="0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ão podia </a:t>
                      </a:r>
                      <a:r>
                        <a:rPr b="1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tar</a:t>
                      </a:r>
                      <a:r>
                        <a:rPr b="0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m</a:t>
                      </a:r>
                      <a:r>
                        <a:rPr b="0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o apoio dele.</a:t>
                      </a:r>
                      <a:endParaRPr b="0" lang="en-US" sz="1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 couldn’t 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unt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____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any real support from him.</a:t>
                      </a:r>
                      <a:endParaRPr b="0" lang="en-US" sz="1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ff"/>
                      </a:solidFill>
                    </a:lnL>
                    <a:lnR w="1368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stou </a:t>
                      </a:r>
                      <a:r>
                        <a:rPr b="1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ocupada</a:t>
                      </a:r>
                      <a:r>
                        <a:rPr b="0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m</a:t>
                      </a:r>
                      <a:r>
                        <a:rPr b="0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o Joe.</a:t>
                      </a:r>
                      <a:endParaRPr b="0" lang="en-US" sz="1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’m 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orried _______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oe.’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ff"/>
                      </a:solidFill>
                    </a:lnL>
                    <a:lnR w="1368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576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—</a:t>
                      </a:r>
                      <a:r>
                        <a:rPr b="0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eus—respondeu Alistair </a:t>
                      </a:r>
                      <a:r>
                        <a:rPr b="1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m</a:t>
                      </a:r>
                      <a:r>
                        <a:rPr b="0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uma </a:t>
                      </a:r>
                      <a:r>
                        <a:rPr b="1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oz</a:t>
                      </a:r>
                      <a:r>
                        <a:rPr b="0" lang="pt-P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de alívio.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1368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ye’, Alistair said 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____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a 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oice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loud with relief.</a:t>
                      </a:r>
                      <a:endParaRPr b="0" lang="en-US" sz="1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ff"/>
                      </a:solidFill>
                    </a:lnL>
                    <a:lnR w="13680">
                      <a:solidFill>
                        <a:srgbClr val="ccccff"/>
                      </a:solidFill>
                    </a:lnR>
                    <a:lnT w="5760">
                      <a:solidFill>
                        <a:srgbClr val="ccccff"/>
                      </a:solidFill>
                    </a:lnT>
                    <a:lnB w="13680">
                      <a:solidFill>
                        <a:srgbClr val="cccc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7365960" y="381492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66cc"/>
                </a:solidFill>
                <a:latin typeface="Comic Sans MS"/>
              </a:rPr>
              <a:t>of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31920" y="44370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66cc"/>
                </a:solidFill>
                <a:latin typeface="Comic Sans MS"/>
              </a:rPr>
              <a:t>on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81400" y="505944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66cc"/>
                </a:solidFill>
                <a:latin typeface="Comic Sans MS"/>
              </a:rPr>
              <a:t>about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41280" y="5492880"/>
            <a:ext cx="4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66cc"/>
                </a:solidFill>
                <a:latin typeface="Comic Sans MS"/>
              </a:rPr>
              <a:t>in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66ccff"/>
                </a:solidFill>
                <a:latin typeface="Arial"/>
              </a:rPr>
              <a:t>Uso directo de corpora no ensino: um grande potencial</a:t>
            </a:r>
            <a:endParaRPr b="0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ccff"/>
                </a:solidFill>
                <a:latin typeface="Arial"/>
              </a:rPr>
              <a:t>Exemplos vistos: inglês língua estrangeira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ccff"/>
                </a:solidFill>
                <a:latin typeface="Arial"/>
              </a:rPr>
              <a:t>Corpora da Linguateca podem ser usados no ensino de português lingua estrangeira (e língua materna!)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ccff"/>
                </a:solidFill>
                <a:latin typeface="Arial"/>
              </a:rPr>
              <a:t>Temos já muitos corpora de português acessíveis a professores e alunos 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66ccff"/>
                </a:solidFill>
                <a:latin typeface="Arial"/>
              </a:rPr>
              <a:t>Uso directo de corpora no ensino:</a:t>
            </a:r>
            <a:br>
              <a:rPr sz="4000"/>
            </a:br>
            <a:r>
              <a:rPr b="0" lang="pt-PT" sz="4000" spc="-1" strike="noStrike">
                <a:solidFill>
                  <a:srgbClr val="66ccff"/>
                </a:solidFill>
                <a:latin typeface="Arial"/>
              </a:rPr>
              <a:t>problemas</a:t>
            </a:r>
            <a:endParaRPr b="0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9120" y="1628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ccff"/>
                </a:solidFill>
                <a:latin typeface="Arial"/>
              </a:rPr>
              <a:t>A maioria dos professores e alunos não sabe o que é um corpu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ccff"/>
                </a:solidFill>
                <a:latin typeface="Arial"/>
              </a:rPr>
              <a:t>A maioria dos corpora não é fácil de usar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ccff"/>
                </a:solidFill>
                <a:latin typeface="Arial"/>
              </a:rPr>
              <a:t>Uso directo de corpora na sala de aula está muito pouco difundido (no inglês também!)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4432320"/>
            <a:ext cx="8497800" cy="1373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3366"/>
                </a:solidFill>
                <a:latin typeface="Arial"/>
              </a:rPr>
              <a:t>O que faz falta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3366"/>
                </a:solidFill>
                <a:latin typeface="Arial"/>
              </a:rPr>
              <a:t>Formação específica para professores e alunos 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3366"/>
                </a:solidFill>
                <a:latin typeface="Arial"/>
              </a:rPr>
              <a:t>Corpora com interfaces mais amigávei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66ccff"/>
                </a:solidFill>
                <a:latin typeface="Arial"/>
              </a:rPr>
              <a:t>Duas maneiras de se usar corpora</a:t>
            </a:r>
            <a:br>
              <a:rPr sz="4000"/>
            </a:br>
            <a:r>
              <a:rPr b="0" lang="pt-PT" sz="4000" spc="-1" strike="noStrike">
                <a:solidFill>
                  <a:srgbClr val="66ccff"/>
                </a:solidFill>
                <a:latin typeface="Arial"/>
              </a:rPr>
              <a:t>no ensino de línguas</a:t>
            </a:r>
            <a:endParaRPr b="0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66ccff"/>
                </a:solidFill>
                <a:latin typeface="Arial"/>
              </a:rPr>
              <a:t>Indirectament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ccff"/>
                </a:solidFill>
                <a:latin typeface="Arial"/>
              </a:rPr>
              <a:t>Professores e alunos não usam corpora, mas usam livros didácticos, dicionários e  gramáticas baseados em corpora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66ccff"/>
                </a:solidFill>
                <a:latin typeface="Arial"/>
              </a:rPr>
              <a:t>Directament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ccff"/>
                </a:solidFill>
                <a:latin typeface="Arial"/>
              </a:rPr>
              <a:t>Professores usam corpora para preparar exercícios e aulas para os seus aluno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ccff"/>
                </a:solidFill>
                <a:latin typeface="Arial"/>
              </a:rPr>
              <a:t>Alunos usam corpora para aprender autonomamente 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66ccff"/>
                </a:solidFill>
                <a:latin typeface="Arial"/>
              </a:rPr>
              <a:t>Uso indirecto de corpora no ensino</a:t>
            </a:r>
            <a:br>
              <a:rPr sz="4000"/>
            </a:br>
            <a:r>
              <a:rPr b="0" lang="pt-PT" sz="4000" spc="-1" strike="noStrike">
                <a:solidFill>
                  <a:srgbClr val="66ccff"/>
                </a:solidFill>
                <a:latin typeface="Arial"/>
              </a:rPr>
              <a:t>(</a:t>
            </a:r>
            <a:r>
              <a:rPr b="0" lang="pt-PT" sz="3200" spc="-1" strike="noStrike">
                <a:solidFill>
                  <a:srgbClr val="66ccff"/>
                </a:solidFill>
                <a:latin typeface="Arial"/>
              </a:rPr>
              <a:t>livros didácticos, dicionários e gramáticas)</a:t>
            </a:r>
            <a:br>
              <a:rPr sz="3200"/>
            </a:b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ccff"/>
                </a:solidFill>
                <a:latin typeface="Arial"/>
              </a:rPr>
              <a:t>Prioridade a léxico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ccff"/>
                </a:solidFill>
                <a:latin typeface="Arial"/>
              </a:rPr>
              <a:t>Informações contextuais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ccff"/>
                </a:solidFill>
                <a:latin typeface="Arial"/>
              </a:rPr>
              <a:t>Colocações (com que outras palavras?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ccff"/>
                </a:solidFill>
                <a:latin typeface="Arial"/>
              </a:rPr>
              <a:t>Coligações (com que gramática?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ccff"/>
                </a:solidFill>
                <a:latin typeface="Arial"/>
              </a:rPr>
              <a:t>Semântica (com que tema?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ccff"/>
                </a:solidFill>
                <a:latin typeface="Arial"/>
              </a:rPr>
              <a:t>Pragmática (com que função?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ccff"/>
                </a:solidFill>
                <a:latin typeface="Arial"/>
              </a:rPr>
              <a:t>Género (com que tipo de texto?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ccff"/>
                </a:solidFill>
                <a:latin typeface="Arial"/>
              </a:rPr>
              <a:t>Exemplos autênticos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66ccff"/>
                </a:solidFill>
                <a:latin typeface="Arial"/>
              </a:rPr>
              <a:t>Uso indirecto de corpora no ensino</a:t>
            </a:r>
            <a:endParaRPr b="0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ccff"/>
                </a:solidFill>
                <a:latin typeface="Arial"/>
              </a:rPr>
              <a:t>Materiais didácticos pesquisados e concebidos por especialistas em linguística de corpora e didáctica das línguas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ccff"/>
                </a:solidFill>
                <a:latin typeface="Arial"/>
              </a:rPr>
              <a:t>Professores e alunos não precisam nem de saber o que é um corpus, utilizam apenas o produto fina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66ccff"/>
                </a:solidFill>
                <a:latin typeface="Arial"/>
              </a:rPr>
              <a:t>Uso indirecto de corpora no ensino</a:t>
            </a:r>
            <a:endParaRPr b="0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484280"/>
            <a:ext cx="4319640" cy="4787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3366"/>
                </a:solidFill>
                <a:latin typeface="Arial"/>
              </a:rPr>
              <a:t>Ensino de inglês</a:t>
            </a:r>
            <a:endParaRPr b="0" lang="en-US" sz="36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3366"/>
                </a:solidFill>
                <a:latin typeface="Arial"/>
              </a:rPr>
              <a:t>Dicionários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3366"/>
                </a:solidFill>
                <a:latin typeface="Arial"/>
              </a:rPr>
              <a:t>COBUILD (1987) e depois vários outro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3366"/>
                </a:solidFill>
                <a:latin typeface="Arial"/>
              </a:rPr>
              <a:t>Gramáticas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3366"/>
                </a:solidFill>
                <a:latin typeface="Arial"/>
              </a:rPr>
              <a:t>COBUILD (1990), Longman (1999)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3366"/>
                </a:solidFill>
                <a:latin typeface="Arial"/>
              </a:rPr>
              <a:t>Livros didáctico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3366"/>
                </a:solidFill>
                <a:latin typeface="Arial"/>
              </a:rPr>
              <a:t>COBUILD English course (1989)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3366"/>
                </a:solidFill>
                <a:latin typeface="Arial"/>
              </a:rPr>
              <a:t>Dicionário de colocaçõ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3366"/>
                </a:solidFill>
                <a:latin typeface="Arial"/>
              </a:rPr>
              <a:t>Oxford (2002)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66cc"/>
                </a:solidFill>
                <a:latin typeface="Arial"/>
              </a:rPr>
              <a:t>Sucesso e aceitação! 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59280" y="1413000"/>
            <a:ext cx="4105440" cy="4878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3366"/>
                </a:solidFill>
                <a:latin typeface="Arial"/>
              </a:rPr>
              <a:t>Ensino </a:t>
            </a:r>
            <a:endParaRPr b="0" lang="en-US" sz="36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3366"/>
                </a:solidFill>
                <a:latin typeface="Arial"/>
              </a:rPr>
              <a:t>de português</a:t>
            </a:r>
            <a:endParaRPr b="0" lang="en-US" sz="36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66cc"/>
                </a:solidFill>
                <a:latin typeface="Arial"/>
              </a:rPr>
              <a:t>Não há nada?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66ccff"/>
                </a:solidFill>
                <a:latin typeface="Arial"/>
              </a:rPr>
              <a:t>Uso indirecto de corpora no ensino</a:t>
            </a:r>
            <a:endParaRPr b="0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3640" y="1916280"/>
            <a:ext cx="5761080" cy="460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Cometer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do Lat. </a:t>
            </a:r>
            <a:r>
              <a:rPr b="0" i="1" lang="en-GB" sz="1800" spc="-1" strike="noStrike">
                <a:solidFill>
                  <a:srgbClr val="003366"/>
                </a:solidFill>
                <a:latin typeface="Arial"/>
              </a:rPr>
              <a:t>commitere</a:t>
            </a:r>
            <a:br>
              <a:rPr sz="1800"/>
            </a:br>
            <a:br>
              <a:rPr sz="1800"/>
            </a:b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v. tr., fazer; praticar; realizar;</a:t>
            </a:r>
            <a:br>
              <a:rPr sz="2400"/>
            </a:b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erpetrar; encarregar; incumbir;</a:t>
            </a:r>
            <a:br>
              <a:rPr sz="2400"/>
            </a:b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cometer; investir; atacar; assaltar;</a:t>
            </a:r>
            <a:br>
              <a:rPr sz="2400"/>
            </a:b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xperimentar; empreender; afrontar;</a:t>
            </a:r>
            <a:br>
              <a:rPr sz="2400"/>
            </a:b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onfiar; 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v. refl., arriscar-se; aventurar-se;</a:t>
            </a:r>
            <a:br>
              <a:rPr sz="2400"/>
            </a:b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xpor-se.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3366"/>
                </a:solidFill>
                <a:latin typeface="Arial"/>
              </a:rPr>
              <a:t>Texto Editores, Dicionário Universal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4880" y="1268280"/>
            <a:ext cx="73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ccff"/>
                </a:solidFill>
                <a:latin typeface="Arial"/>
              </a:rPr>
              <a:t>Verbete tradicional, não baseado em corpora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66ccff"/>
                </a:solidFill>
                <a:latin typeface="Arial"/>
              </a:rPr>
              <a:t>Uso indirecto de corpora no ensino</a:t>
            </a:r>
            <a:endParaRPr b="0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61440" y="1052640"/>
            <a:ext cx="63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ccff"/>
                </a:solidFill>
                <a:latin typeface="Arial"/>
              </a:rPr>
              <a:t>Verbete didáctico, baseado em corpora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8200" y="1763640"/>
            <a:ext cx="8210520" cy="4757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commit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1commit   commits   committing   committed 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If someone 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commits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a crime or a sin, they do something illegal or bad.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i="1" lang="en-GB" sz="1800" spc="-1" strike="noStrike">
                <a:solidFill>
                  <a:srgbClr val="003366"/>
                </a:solidFill>
                <a:latin typeface="Arial"/>
              </a:rPr>
              <a:t>I have never committed any crime.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i="1" lang="en-GB" sz="1800" spc="-1" strike="noStrike">
                <a:solidFill>
                  <a:srgbClr val="003366"/>
                </a:solidFill>
                <a:latin typeface="Arial"/>
              </a:rPr>
              <a:t>This is a man who has committed murder.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i="1" lang="en-GB" sz="1800" spc="-1" strike="noStrike">
                <a:solidFill>
                  <a:srgbClr val="003366"/>
                </a:solidFill>
                <a:latin typeface="Arial"/>
              </a:rPr>
              <a:t>...the temptation to commit adultery.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VB 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2commit   commits   committing   committed 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If someone 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commits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suicide, they deliberately kill themselves.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i="1" lang="en-GB" sz="1800" spc="-1" strike="noStrike">
                <a:solidFill>
                  <a:srgbClr val="003366"/>
                </a:solidFill>
                <a:latin typeface="Arial"/>
              </a:rPr>
              <a:t>There are unconfirmed reports he tried to commit suicide.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VB 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3366"/>
                </a:solidFill>
                <a:latin typeface="Arial"/>
              </a:rPr>
              <a:t>...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COBUILD (c) HarperCollins Publishers.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87640" y="2421000"/>
            <a:ext cx="1440000" cy="216000"/>
          </a:xfrm>
          <a:prstGeom prst="rect">
            <a:avLst/>
          </a:prstGeom>
          <a:solidFill>
            <a:srgbClr val="0066cc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45080" y="2421000"/>
            <a:ext cx="1440000" cy="216000"/>
          </a:xfrm>
          <a:prstGeom prst="rect">
            <a:avLst/>
          </a:prstGeom>
          <a:solidFill>
            <a:srgbClr val="0066cc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4292640"/>
            <a:ext cx="792360" cy="288720"/>
          </a:xfrm>
          <a:prstGeom prst="rect">
            <a:avLst/>
          </a:prstGeom>
          <a:solidFill>
            <a:srgbClr val="0066cc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66ccff"/>
                </a:solidFill>
                <a:latin typeface="Arial"/>
              </a:rPr>
              <a:t>Uso directo de corpora no ensino</a:t>
            </a:r>
            <a:endParaRPr b="0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ccff"/>
                </a:solidFill>
                <a:latin typeface="Arial"/>
              </a:rPr>
              <a:t>Data-driven learning (Johns &amp; King 1991)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ccff"/>
                </a:solidFill>
                <a:latin typeface="Arial"/>
              </a:rPr>
              <a:t>Professores preparam materiais didáctico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ccff"/>
                </a:solidFill>
                <a:latin typeface="Arial"/>
              </a:rPr>
              <a:t>Específicos e baseados nas dificuldades reais dos alunos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ccff"/>
                </a:solidFill>
                <a:latin typeface="Arial"/>
              </a:rPr>
              <a:t>Adaptam concordâncias, transformam-nas em exercícios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ccff"/>
                </a:solidFill>
                <a:latin typeface="Arial"/>
              </a:rPr>
              <a:t>Alunos consultam corpora directamente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ccff"/>
                </a:solidFill>
                <a:latin typeface="Arial"/>
              </a:rPr>
              <a:t>Para resolver dúvidas autonomamente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ccff"/>
                </a:solidFill>
                <a:latin typeface="Arial"/>
              </a:rPr>
              <a:t>Para explorar a língua 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66ccff"/>
                </a:solidFill>
                <a:latin typeface="Arial"/>
              </a:rPr>
              <a:t>Uso directo de corpora </a:t>
            </a:r>
            <a:br>
              <a:rPr sz="4000"/>
            </a:br>
            <a:r>
              <a:rPr b="1" lang="pt-PT" sz="4000" spc="-1" strike="noStrike">
                <a:solidFill>
                  <a:srgbClr val="66ccff"/>
                </a:solidFill>
                <a:latin typeface="Arial"/>
              </a:rPr>
              <a:t>no ensino</a:t>
            </a:r>
            <a:endParaRPr b="0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2513160"/>
            <a:ext cx="3620880" cy="3141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3366"/>
                </a:solidFill>
                <a:latin typeface="Arial"/>
              </a:rPr>
              <a:t>Corpora Paralelo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Servem para pesquisas bilingues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São geralmente menores e menos representativos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88000" y="2492280"/>
            <a:ext cx="3744720" cy="3141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3366"/>
                </a:solidFill>
                <a:latin typeface="Arial"/>
              </a:rPr>
              <a:t>Corpora monolingue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Servem para pesquisas monolingues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Há corpora maiores e mais representativos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27280" y="5802480"/>
            <a:ext cx="40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ccff"/>
                </a:solidFill>
                <a:latin typeface="Arial"/>
              </a:rPr>
              <a:t>São complementares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79600" y="299556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66cc"/>
                </a:solidFill>
                <a:latin typeface="Arial"/>
              </a:rPr>
              <a:t>COMPARA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88320" y="299736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66cc"/>
                </a:solidFill>
                <a:latin typeface="Arial"/>
              </a:rPr>
              <a:t>BNC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07:38:16Z</dcterms:created>
  <dc:creator>Ana Frankenberg</dc:creator>
  <dc:description/>
  <dc:language>en-US</dc:language>
  <cp:lastModifiedBy>Ana Frankenberg</cp:lastModifiedBy>
  <dcterms:modified xsi:type="dcterms:W3CDTF">2006-07-06T14:51:58Z</dcterms:modified>
  <cp:revision>28</cp:revision>
  <dc:subject/>
  <dc:title>Corpora e ensino de línguas</dc:title>
</cp:coreProperties>
</file>